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F8DE-70BF-4E24-95C4-CE96B9936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ellsalive.com/cells/cell_model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835-FB6A-431B-B636-EAD35C08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D53-D4B2-4746-88E0-8232C9BE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807-CE7B-4BE1-8343-3AC8C3A1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11E-7071-4FCA-94B7-C908136E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CCE-07F1-4240-90E5-5B2E894B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1E9-E5A2-480E-8B20-7F732076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EAC-E4A8-4502-85B6-209A7000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693-BA76-4C72-90FC-0AFE06F6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064-028A-48EE-8AF0-32039B82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359-26AF-4CE4-9F95-8D580A78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B69-4477-4830-987F-AE9AF0AF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A2E-8816-41B1-957D-60FD0526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09F1-5238-4490-9EA3-770C5491E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378480"/>
            <a:chOff x="0" y="0"/>
            <a:chExt cx="9144000" cy="63784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rcRect l="29283" t="27471" r="19766" b="13185"/>
            <a:stretch/>
          </p:blipFill>
          <p:spPr>
            <a:xfrm>
              <a:off x="0" y="701640"/>
              <a:ext cx="9144000" cy="56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3809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ffffff"/>
                  </a:solidFill>
                  <a:latin typeface="Comic Sans MS"/>
                </a:rPr>
                <a:t>Plant Cell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rcRect l="29283" t="28571" r="19326" b="12090"/>
          <a:stretch/>
        </p:blipFill>
        <p:spPr>
          <a:xfrm>
            <a:off x="0" y="685800"/>
            <a:ext cx="9144000" cy="5627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28699" t="17582" r="19180" b="22929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29283" t="18683" r="19766" b="23157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93840" y="316548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74320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762120"/>
            <a:ext cx="9144000" cy="5506920"/>
            <a:chOff x="0" y="762120"/>
            <a:chExt cx="9144000" cy="5506920"/>
          </a:xfrm>
        </p:grpSpPr>
        <p:pic>
          <p:nvPicPr>
            <p:cNvPr id="57" name="" descr=""/>
            <p:cNvPicPr/>
            <p:nvPr/>
          </p:nvPicPr>
          <p:blipFill>
            <a:blip r:embed="rId5"/>
            <a:srcRect l="29283" t="18683" r="19180" b="23079"/>
            <a:stretch/>
          </p:blipFill>
          <p:spPr>
            <a:xfrm>
              <a:off x="0" y="762120"/>
              <a:ext cx="9144000" cy="55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rcRect l="48612" t="42053" r="43662" b="38611"/>
            <a:stretch/>
          </p:blipFill>
          <p:spPr>
            <a:xfrm>
              <a:off x="3581280" y="2667240"/>
              <a:ext cx="121932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173400" y="2590920"/>
              <a:ext cx="16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ytopla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762120"/>
            <a:ext cx="9144000" cy="5141880"/>
            <a:chOff x="0" y="762120"/>
            <a:chExt cx="9144000" cy="514188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29283" t="20878" r="19180" b="26350"/>
            <a:stretch/>
          </p:blipFill>
          <p:spPr>
            <a:xfrm>
              <a:off x="0" y="914400"/>
              <a:ext cx="9144000" cy="498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6320" y="762120"/>
              <a:ext cx="411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Animal Cel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rcRect l="29283" t="20878" r="19180" b="25275"/>
          <a:stretch/>
        </p:blipFill>
        <p:spPr>
          <a:xfrm>
            <a:off x="0" y="838080"/>
            <a:ext cx="8915400" cy="496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29283" t="19783" r="19180" b="26376"/>
          <a:stretch/>
        </p:blipFill>
        <p:spPr>
          <a:xfrm>
            <a:off x="0" y="838080"/>
            <a:ext cx="8991720" cy="5007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914400"/>
            <a:ext cx="9144000" cy="5562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nimal cells have no cell wa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914400"/>
            <a:ext cx="9144000" cy="5298840"/>
            <a:chOff x="0" y="914400"/>
            <a:chExt cx="9144000" cy="5298840"/>
          </a:xfrm>
        </p:grpSpPr>
        <p:pic>
          <p:nvPicPr>
            <p:cNvPr id="67" name="" descr=""/>
            <p:cNvPicPr/>
            <p:nvPr/>
          </p:nvPicPr>
          <p:blipFill>
            <a:blip r:embed="rId4"/>
            <a:srcRect l="29283" t="19783" r="19180" b="24180"/>
            <a:stretch/>
          </p:blipFill>
          <p:spPr>
            <a:xfrm>
              <a:off x="0" y="914400"/>
              <a:ext cx="9144000" cy="52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553080" y="1218960"/>
              <a:ext cx="213372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ytopla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8:31:49Z</dcterms:created>
  <dc:creator>Dekalb County School</dc:creator>
  <dc:description/>
  <dc:language>en-US</dc:language>
  <cp:lastModifiedBy>Dekalb County School</cp:lastModifiedBy>
  <dcterms:modified xsi:type="dcterms:W3CDTF">2012-04-16T15:55:14Z</dcterms:modified>
  <cp:revision>2</cp:revision>
  <dc:subject/>
  <dc:title>PowerPoint Presentation</dc:title>
</cp:coreProperties>
</file>